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82804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0280" y="227160"/>
            <a:ext cx="93852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5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080" y="2391840"/>
            <a:ext cx="9387000" cy="23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71080" y="4987800"/>
            <a:ext cx="9387000" cy="23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0280" y="227160"/>
            <a:ext cx="93852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1080" y="2391840"/>
            <a:ext cx="4580640" cy="23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81040" y="2391840"/>
            <a:ext cx="4580640" cy="23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71080" y="4987800"/>
            <a:ext cx="4580640" cy="23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81040" y="4987800"/>
            <a:ext cx="4580640" cy="23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0280" y="227160"/>
            <a:ext cx="93852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1080" y="2391840"/>
            <a:ext cx="3022200" cy="23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44840" y="2391840"/>
            <a:ext cx="3022200" cy="23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8600" y="2391840"/>
            <a:ext cx="3022200" cy="23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71080" y="4987800"/>
            <a:ext cx="3022200" cy="23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44840" y="4987800"/>
            <a:ext cx="3022200" cy="23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18600" y="4987800"/>
            <a:ext cx="3022200" cy="23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0280" y="227160"/>
            <a:ext cx="93852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71080" y="2391840"/>
            <a:ext cx="93870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0280" y="227160"/>
            <a:ext cx="93852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71080" y="2391840"/>
            <a:ext cx="938700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0280" y="227160"/>
            <a:ext cx="93852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1080" y="2391840"/>
            <a:ext cx="458064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81040" y="2391840"/>
            <a:ext cx="458064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0280" y="227160"/>
            <a:ext cx="93852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0280" y="227160"/>
            <a:ext cx="93852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0280" y="227160"/>
            <a:ext cx="93852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1080" y="2391840"/>
            <a:ext cx="4580640" cy="23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1040" y="2391840"/>
            <a:ext cx="458064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71080" y="4987800"/>
            <a:ext cx="4580640" cy="23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0280" y="227160"/>
            <a:ext cx="93852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5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080" y="2391840"/>
            <a:ext cx="458064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1040" y="2391840"/>
            <a:ext cx="4580640" cy="23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81040" y="4987800"/>
            <a:ext cx="4580640" cy="23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0280" y="227160"/>
            <a:ext cx="93852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5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080" y="2391840"/>
            <a:ext cx="4580640" cy="23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1040" y="2391840"/>
            <a:ext cx="4580640" cy="23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71080" y="4987800"/>
            <a:ext cx="9387000" cy="23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0280" y="227160"/>
            <a:ext cx="93852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c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1080" y="2391840"/>
            <a:ext cx="938700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buClr>
                <a:srgbClr val="ffff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-41400" y="-50760"/>
            <a:ext cx="10112400" cy="923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12400" cy="92329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4592520" y="3794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2880" y="6748560"/>
            <a:ext cx="9363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Quantified Tree Risk Assessment Limited, 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www.qtra.co.u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411280"/>
            <a:ext cx="10137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QTRA Illustrated Exampl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944880" y="395280"/>
          <a:ext cx="2160720" cy="2089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44880" y="395280"/>
                    <a:ext cx="216072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00160" y="227160"/>
            <a:ext cx="4824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o be viewed as a slide sh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7961400"/>
            <a:ext cx="4824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Licensed User example 01-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11640"/>
            <a:ext cx="99061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c5"/>
                </a:solidFill>
                <a:latin typeface="Arial"/>
              </a:rPr>
              <a:t>VALUING LAND USE FOR ONE-OFF EVENTS AND </a:t>
            </a:r>
            <a:br>
              <a:rPr sz="3400"/>
            </a:br>
            <a:r>
              <a:rPr b="1" lang="en-GB" sz="3400" spc="-1" strike="noStrike">
                <a:solidFill>
                  <a:srgbClr val="ffffc5"/>
                </a:solidFill>
                <a:latin typeface="Arial"/>
              </a:rPr>
              <a:t>VALUING LAND USE PER SQUARE METR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0280" y="227160"/>
            <a:ext cx="93852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5"/>
                </a:solidFill>
                <a:latin typeface="Arial"/>
              </a:rPr>
              <a:t>One-off Event Occupation Rates</a:t>
            </a:r>
            <a:endParaRPr b="1" lang="en-US" sz="3600" spc="-1" strike="noStrike">
              <a:solidFill>
                <a:srgbClr val="ffffc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402920"/>
            <a:ext cx="7848720" cy="717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entury Gothic"/>
              </a:rPr>
              <a:t>This example seeks to demonstrate how variable occupation of a footpath over a year is summed to provide a probability of occupation at any point in the year.</a:t>
            </a:r>
            <a:endParaRPr b="1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5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entury Gothic"/>
              </a:rPr>
              <a:t>When we value human occupation, we consider it as total available time -3,600 seconds per hour, 86,400 seconds per day, 8,760 hours per year and so on- divided by the total occupation.  E.g. one pedestrian per day = 5 seconds/86,400 seconds =  probability of occupation 1/17,280.</a:t>
            </a:r>
            <a:endParaRPr b="1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entury Gothic"/>
              </a:rPr>
              <a:t>Example</a:t>
            </a:r>
            <a:endParaRPr b="1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ffff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entury Gothic"/>
              </a:rPr>
              <a:t>A mature tree is located on a parkland site and for 364 days of the year a daily average of two pedestrians per day pass beneath the tree, which comprises Mrs Jones taking her usual route to walk her dog in and out of the park</a:t>
            </a:r>
            <a:endParaRPr b="1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ffff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entury Gothic"/>
              </a:rPr>
              <a:t>2 x 364 days = 728 pedestrians for 364 days of the year</a:t>
            </a:r>
            <a:endParaRPr b="1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ffff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entury Gothic"/>
              </a:rPr>
              <a:t>For one day in August each year there is a flower show in the park when park access is diverted and 15,000 people each pass twice beneath the tree, which gives an occupation of 30,000 pedestrian movements for that day</a:t>
            </a:r>
            <a:endParaRPr b="1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352520" y="3635280"/>
            <a:ext cx="4679280" cy="874800"/>
            <a:chOff x="1352520" y="3635280"/>
            <a:chExt cx="4679280" cy="874800"/>
          </a:xfrm>
        </p:grpSpPr>
        <p:sp>
          <p:nvSpPr>
            <p:cNvPr id="51" name=""/>
            <p:cNvSpPr/>
            <p:nvPr/>
          </p:nvSpPr>
          <p:spPr>
            <a:xfrm>
              <a:off x="1368000" y="3635280"/>
              <a:ext cx="104904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entury Gothic"/>
                </a:rPr>
                <a:t>30,72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1654560" y="3852720"/>
              <a:ext cx="4377240" cy="657360"/>
              <a:chOff x="1654560" y="3852720"/>
              <a:chExt cx="4377240" cy="657360"/>
            </a:xfrm>
          </p:grpSpPr>
          <p:sp>
            <p:nvSpPr>
              <p:cNvPr id="53" name=""/>
              <p:cNvSpPr/>
              <p:nvPr/>
            </p:nvSpPr>
            <p:spPr>
              <a:xfrm>
                <a:off x="1654560" y="4068720"/>
                <a:ext cx="1254240" cy="4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654560" y="4068720"/>
                <a:ext cx="707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514960" y="3852720"/>
                <a:ext cx="3516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Century Gothic"/>
                    <a:ea typeface="Times New Roman"/>
                  </a:rPr>
                  <a:t>= 84.19  movements per day (average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352520" y="4068720"/>
              <a:ext cx="87624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entury Gothic"/>
                </a:rPr>
                <a:t>36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0280" y="227160"/>
            <a:ext cx="93852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5"/>
                </a:solidFill>
                <a:latin typeface="Arial"/>
              </a:rPr>
              <a:t>One-off Event Occupation Rates</a:t>
            </a:r>
            <a:endParaRPr b="1" lang="en-US" sz="3600" spc="-1" strike="noStrike">
              <a:solidFill>
                <a:srgbClr val="ffffc5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52720" y="3132000"/>
            <a:ext cx="10018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3800" y="2597040"/>
            <a:ext cx="12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3800" y="4479840"/>
            <a:ext cx="12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93800" y="2597040"/>
            <a:ext cx="0" cy="534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54600" y="2597040"/>
            <a:ext cx="0" cy="534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2720" y="2597040"/>
            <a:ext cx="1001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3800" y="3132000"/>
            <a:ext cx="0" cy="439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4600" y="3132000"/>
            <a:ext cx="0" cy="439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3800" y="3571920"/>
            <a:ext cx="0" cy="466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4600" y="3571920"/>
            <a:ext cx="0" cy="466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3800" y="4038480"/>
            <a:ext cx="0" cy="441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4600" y="4038480"/>
            <a:ext cx="0" cy="441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52720" y="4479840"/>
            <a:ext cx="1001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65240" y="1620720"/>
            <a:ext cx="75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he average occupation over the year which will be used in the risk assessment is calculated belo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71960" y="5126040"/>
            <a:ext cx="194940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2560" y="5103720"/>
            <a:ext cx="1092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93800" y="4603680"/>
            <a:ext cx="8175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3800" y="6039000"/>
            <a:ext cx="81756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3800" y="4603680"/>
            <a:ext cx="1800" cy="73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65640" y="4603680"/>
            <a:ext cx="1800" cy="73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5920" y="562464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=   Probability of Occupation 1/205 (Target 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11360" y="4603680"/>
            <a:ext cx="93672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93800" y="5343480"/>
            <a:ext cx="1800" cy="69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8080" y="4603680"/>
            <a:ext cx="8175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68880" y="5365800"/>
            <a:ext cx="1440" cy="69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71960" y="7126200"/>
            <a:ext cx="19494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62560" y="7104240"/>
            <a:ext cx="1092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93800" y="6602400"/>
            <a:ext cx="8175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86160" y="8128080"/>
            <a:ext cx="8175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3800" y="6602400"/>
            <a:ext cx="1800" cy="74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65640" y="6602400"/>
            <a:ext cx="1800" cy="74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1360" y="6602400"/>
            <a:ext cx="93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86160" y="7432560"/>
            <a:ext cx="1440" cy="69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8080" y="6602400"/>
            <a:ext cx="8175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40440" y="8128080"/>
            <a:ext cx="8175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03720" y="8128080"/>
            <a:ext cx="93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58000" y="7432560"/>
            <a:ext cx="1440" cy="69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86040" y="2325600"/>
            <a:ext cx="60991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entury Gothic"/>
              </a:rPr>
              <a:t>728     Mrs Jones occupation (movements) over 364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24160" y="2556000"/>
            <a:ext cx="59212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entury Gothic"/>
              </a:rPr>
              <a:t>+ 30,000     Pedestrian movements on the day of the sho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52520" y="2944800"/>
            <a:ext cx="6408720" cy="507960"/>
            <a:chOff x="1352520" y="2944800"/>
            <a:chExt cx="6408720" cy="507960"/>
          </a:xfrm>
        </p:grpSpPr>
        <p:sp>
          <p:nvSpPr>
            <p:cNvPr id="98" name=""/>
            <p:cNvSpPr/>
            <p:nvPr/>
          </p:nvSpPr>
          <p:spPr>
            <a:xfrm>
              <a:off x="1352520" y="2987640"/>
              <a:ext cx="64087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1" lang="en-GB" sz="1600" spc="-1" strike="noStrike">
                  <a:solidFill>
                    <a:srgbClr val="ffffff"/>
                  </a:solidFill>
                  <a:latin typeface="Century Gothic"/>
                </a:rPr>
                <a:t>= 30,728     Total movements for the yea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96880" y="2944800"/>
              <a:ext cx="792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424160" y="4716360"/>
            <a:ext cx="56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84.19 x 5 seconds = 421 seconds occupation per d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13760" y="6659640"/>
            <a:ext cx="2232000" cy="102960"/>
          </a:xfrm>
          <a:custGeom>
            <a:avLst/>
            <a:gdLst/>
            <a:ahLst/>
            <a:rect l="l" t="t" r="r" b="b"/>
            <a:pathLst>
              <a:path w="1406" h="53">
                <a:moveTo>
                  <a:pt x="0" y="0"/>
                </a:moveTo>
                <a:cubicBezTo>
                  <a:pt x="570" y="26"/>
                  <a:pt x="1141" y="53"/>
                  <a:pt x="1406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424160" y="5219640"/>
            <a:ext cx="2376360" cy="1128600"/>
            <a:chOff x="1424160" y="5219640"/>
            <a:chExt cx="2376360" cy="1128600"/>
          </a:xfrm>
        </p:grpSpPr>
        <p:grpSp>
          <p:nvGrpSpPr>
            <p:cNvPr id="103" name=""/>
            <p:cNvGrpSpPr/>
            <p:nvPr/>
          </p:nvGrpSpPr>
          <p:grpSpPr>
            <a:xfrm>
              <a:off x="1424160" y="5219640"/>
              <a:ext cx="2376360" cy="1128600"/>
              <a:chOff x="1424160" y="5219640"/>
              <a:chExt cx="2376360" cy="1128600"/>
            </a:xfrm>
          </p:grpSpPr>
          <p:sp>
            <p:nvSpPr>
              <p:cNvPr id="104" name=""/>
              <p:cNvSpPr/>
              <p:nvPr/>
            </p:nvSpPr>
            <p:spPr>
              <a:xfrm>
                <a:off x="1424160" y="5219640"/>
                <a:ext cx="1944360" cy="74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Century Gothic"/>
                  </a:rPr>
                  <a:t>   </a:t>
                </a:r>
                <a:r>
                  <a:rPr b="1" lang="en-GB" sz="1600" spc="-1" strike="noStrike">
                    <a:solidFill>
                      <a:srgbClr val="ffffff"/>
                    </a:solidFill>
                    <a:latin typeface="Century Gothic"/>
                  </a:rPr>
                  <a:t>421              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424160" y="5653080"/>
                <a:ext cx="2376360" cy="69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Century Gothic"/>
                  </a:rPr>
                  <a:t>86,400          205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47960" y="5681520"/>
                <a:ext cx="936360" cy="2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5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Century Gothic"/>
                  </a:rPr>
                  <a:t>=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496880" y="5796000"/>
              <a:ext cx="6480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20880" y="5796000"/>
              <a:ext cx="360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417920" y="5916600"/>
            <a:ext cx="93672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881240" y="1044720"/>
            <a:ext cx="477684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Annual occupation of 100 Children and staff </a:t>
            </a:r>
            <a:endParaRPr b="1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x 150 days per year x 1 hour per day = 15,000 hours </a:t>
            </a:r>
            <a:endParaRPr b="1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occupied per year</a:t>
            </a:r>
            <a:endParaRPr b="1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200160" y="227160"/>
            <a:ext cx="93852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5"/>
                </a:solidFill>
                <a:latin typeface="Arial"/>
              </a:rPr>
              <a:t>Valuing Targets by Area</a:t>
            </a:r>
            <a:endParaRPr b="1" lang="en-US" sz="3600" spc="-1" strike="noStrike">
              <a:solidFill>
                <a:srgbClr val="ffffc5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8880" y="1441440"/>
            <a:ext cx="3600360" cy="5216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2920" y="942840"/>
            <a:ext cx="4379760" cy="1433520"/>
          </a:xfrm>
          <a:custGeom>
            <a:avLst/>
            <a:gdLst/>
            <a:ahLst/>
            <a:rect l="l" t="t" r="r" b="b"/>
            <a:pathLst>
              <a:path w="2759" h="756">
                <a:moveTo>
                  <a:pt x="317" y="68"/>
                </a:moveTo>
                <a:cubicBezTo>
                  <a:pt x="377" y="38"/>
                  <a:pt x="401" y="16"/>
                  <a:pt x="454" y="23"/>
                </a:cubicBezTo>
                <a:cubicBezTo>
                  <a:pt x="507" y="30"/>
                  <a:pt x="582" y="106"/>
                  <a:pt x="635" y="113"/>
                </a:cubicBezTo>
                <a:cubicBezTo>
                  <a:pt x="688" y="120"/>
                  <a:pt x="711" y="83"/>
                  <a:pt x="771" y="68"/>
                </a:cubicBezTo>
                <a:cubicBezTo>
                  <a:pt x="831" y="53"/>
                  <a:pt x="915" y="23"/>
                  <a:pt x="998" y="23"/>
                </a:cubicBezTo>
                <a:cubicBezTo>
                  <a:pt x="1081" y="23"/>
                  <a:pt x="1179" y="53"/>
                  <a:pt x="1270" y="68"/>
                </a:cubicBezTo>
                <a:cubicBezTo>
                  <a:pt x="1361" y="83"/>
                  <a:pt x="1459" y="120"/>
                  <a:pt x="1542" y="113"/>
                </a:cubicBezTo>
                <a:cubicBezTo>
                  <a:pt x="1625" y="106"/>
                  <a:pt x="1694" y="38"/>
                  <a:pt x="1769" y="23"/>
                </a:cubicBezTo>
                <a:cubicBezTo>
                  <a:pt x="1844" y="8"/>
                  <a:pt x="1943" y="0"/>
                  <a:pt x="1996" y="23"/>
                </a:cubicBezTo>
                <a:cubicBezTo>
                  <a:pt x="2049" y="46"/>
                  <a:pt x="2026" y="159"/>
                  <a:pt x="2086" y="159"/>
                </a:cubicBezTo>
                <a:cubicBezTo>
                  <a:pt x="2146" y="159"/>
                  <a:pt x="2291" y="46"/>
                  <a:pt x="2359" y="23"/>
                </a:cubicBezTo>
                <a:cubicBezTo>
                  <a:pt x="2427" y="0"/>
                  <a:pt x="2435" y="0"/>
                  <a:pt x="2495" y="23"/>
                </a:cubicBezTo>
                <a:cubicBezTo>
                  <a:pt x="2555" y="46"/>
                  <a:pt x="2683" y="91"/>
                  <a:pt x="2721" y="159"/>
                </a:cubicBezTo>
                <a:cubicBezTo>
                  <a:pt x="2759" y="227"/>
                  <a:pt x="2736" y="363"/>
                  <a:pt x="2721" y="431"/>
                </a:cubicBezTo>
                <a:cubicBezTo>
                  <a:pt x="2706" y="499"/>
                  <a:pt x="2684" y="529"/>
                  <a:pt x="2631" y="567"/>
                </a:cubicBezTo>
                <a:cubicBezTo>
                  <a:pt x="2578" y="605"/>
                  <a:pt x="2495" y="643"/>
                  <a:pt x="2404" y="658"/>
                </a:cubicBezTo>
                <a:cubicBezTo>
                  <a:pt x="2313" y="673"/>
                  <a:pt x="2177" y="643"/>
                  <a:pt x="2086" y="658"/>
                </a:cubicBezTo>
                <a:cubicBezTo>
                  <a:pt x="1995" y="673"/>
                  <a:pt x="1966" y="741"/>
                  <a:pt x="1860" y="748"/>
                </a:cubicBezTo>
                <a:cubicBezTo>
                  <a:pt x="1754" y="755"/>
                  <a:pt x="1542" y="741"/>
                  <a:pt x="1451" y="703"/>
                </a:cubicBezTo>
                <a:cubicBezTo>
                  <a:pt x="1360" y="665"/>
                  <a:pt x="1368" y="529"/>
                  <a:pt x="1315" y="522"/>
                </a:cubicBezTo>
                <a:cubicBezTo>
                  <a:pt x="1262" y="515"/>
                  <a:pt x="1209" y="620"/>
                  <a:pt x="1134" y="658"/>
                </a:cubicBezTo>
                <a:cubicBezTo>
                  <a:pt x="1059" y="696"/>
                  <a:pt x="953" y="756"/>
                  <a:pt x="862" y="748"/>
                </a:cubicBezTo>
                <a:cubicBezTo>
                  <a:pt x="771" y="740"/>
                  <a:pt x="673" y="612"/>
                  <a:pt x="590" y="612"/>
                </a:cubicBezTo>
                <a:cubicBezTo>
                  <a:pt x="507" y="612"/>
                  <a:pt x="446" y="740"/>
                  <a:pt x="363" y="748"/>
                </a:cubicBezTo>
                <a:cubicBezTo>
                  <a:pt x="280" y="756"/>
                  <a:pt x="151" y="718"/>
                  <a:pt x="91" y="658"/>
                </a:cubicBezTo>
                <a:cubicBezTo>
                  <a:pt x="31" y="598"/>
                  <a:pt x="0" y="461"/>
                  <a:pt x="0" y="385"/>
                </a:cubicBezTo>
                <a:cubicBezTo>
                  <a:pt x="0" y="309"/>
                  <a:pt x="38" y="257"/>
                  <a:pt x="91" y="204"/>
                </a:cubicBezTo>
                <a:cubicBezTo>
                  <a:pt x="144" y="151"/>
                  <a:pt x="257" y="98"/>
                  <a:pt x="317" y="68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1800" y="1528920"/>
            <a:ext cx="142920" cy="171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96880" y="1528920"/>
            <a:ext cx="142920" cy="171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65600" y="1528920"/>
            <a:ext cx="142560" cy="171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0520" y="1528920"/>
            <a:ext cx="142920" cy="171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24160" y="3949560"/>
            <a:ext cx="1333440" cy="1578240"/>
          </a:xfrm>
          <a:custGeom>
            <a:avLst/>
            <a:gdLst/>
            <a:ahLst/>
            <a:rect l="l" t="t" r="r" b="b"/>
            <a:pathLst>
              <a:path w="840" h="823">
                <a:moveTo>
                  <a:pt x="273" y="52"/>
                </a:moveTo>
                <a:cubicBezTo>
                  <a:pt x="326" y="22"/>
                  <a:pt x="364" y="14"/>
                  <a:pt x="409" y="7"/>
                </a:cubicBezTo>
                <a:cubicBezTo>
                  <a:pt x="454" y="0"/>
                  <a:pt x="500" y="0"/>
                  <a:pt x="545" y="7"/>
                </a:cubicBezTo>
                <a:cubicBezTo>
                  <a:pt x="590" y="14"/>
                  <a:pt x="636" y="14"/>
                  <a:pt x="681" y="52"/>
                </a:cubicBezTo>
                <a:cubicBezTo>
                  <a:pt x="726" y="90"/>
                  <a:pt x="794" y="165"/>
                  <a:pt x="817" y="233"/>
                </a:cubicBezTo>
                <a:cubicBezTo>
                  <a:pt x="840" y="301"/>
                  <a:pt x="824" y="392"/>
                  <a:pt x="817" y="460"/>
                </a:cubicBezTo>
                <a:cubicBezTo>
                  <a:pt x="810" y="528"/>
                  <a:pt x="802" y="589"/>
                  <a:pt x="772" y="642"/>
                </a:cubicBezTo>
                <a:cubicBezTo>
                  <a:pt x="742" y="695"/>
                  <a:pt x="688" y="748"/>
                  <a:pt x="635" y="778"/>
                </a:cubicBezTo>
                <a:cubicBezTo>
                  <a:pt x="582" y="808"/>
                  <a:pt x="514" y="823"/>
                  <a:pt x="454" y="823"/>
                </a:cubicBezTo>
                <a:cubicBezTo>
                  <a:pt x="394" y="823"/>
                  <a:pt x="333" y="816"/>
                  <a:pt x="273" y="778"/>
                </a:cubicBezTo>
                <a:cubicBezTo>
                  <a:pt x="213" y="740"/>
                  <a:pt x="136" y="664"/>
                  <a:pt x="91" y="596"/>
                </a:cubicBezTo>
                <a:cubicBezTo>
                  <a:pt x="46" y="528"/>
                  <a:pt x="0" y="437"/>
                  <a:pt x="0" y="369"/>
                </a:cubicBezTo>
                <a:cubicBezTo>
                  <a:pt x="0" y="301"/>
                  <a:pt x="45" y="241"/>
                  <a:pt x="91" y="188"/>
                </a:cubicBezTo>
                <a:cubicBezTo>
                  <a:pt x="137" y="135"/>
                  <a:pt x="220" y="82"/>
                  <a:pt x="273" y="52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5240" y="2484360"/>
            <a:ext cx="2521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ool Playgro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,200m</a:t>
            </a:r>
            <a:r>
              <a:rPr b="1" lang="en-GB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21240" y="4383000"/>
            <a:ext cx="54579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1.71 (people) x £1,000,000 = £1,710,000  value for the whole playground £1,710,000 </a:t>
            </a: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÷ 1,200</a:t>
            </a: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m</a:t>
            </a:r>
            <a:r>
              <a:rPr b="1" lang="en-GB" sz="1400" spc="-1" strike="noStrike" baseline="30000">
                <a:solidFill>
                  <a:srgbClr val="ffffff"/>
                </a:solidFill>
                <a:latin typeface="Century Gothic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  (area of playground) = £1,425 </a:t>
            </a: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per m</a:t>
            </a:r>
            <a:r>
              <a:rPr b="1" lang="en-GB" sz="1400" spc="-1" strike="noStrike" baseline="30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64080" y="2771640"/>
            <a:ext cx="4638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=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1.71/1 (constant occupation by 1.71 peopl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44880" y="4657680"/>
            <a:ext cx="142560" cy="171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737240" y="1820880"/>
            <a:ext cx="4392360" cy="1103400"/>
            <a:chOff x="4737240" y="1820880"/>
            <a:chExt cx="4392360" cy="1103400"/>
          </a:xfrm>
        </p:grpSpPr>
        <p:grpSp>
          <p:nvGrpSpPr>
            <p:cNvPr id="124" name=""/>
            <p:cNvGrpSpPr/>
            <p:nvPr/>
          </p:nvGrpSpPr>
          <p:grpSpPr>
            <a:xfrm>
              <a:off x="4737240" y="1820880"/>
              <a:ext cx="4392360" cy="1103400"/>
              <a:chOff x="4737240" y="1820880"/>
              <a:chExt cx="4392360" cy="1103400"/>
            </a:xfrm>
          </p:grpSpPr>
          <p:sp>
            <p:nvSpPr>
              <p:cNvPr id="125" name=""/>
              <p:cNvSpPr/>
              <p:nvPr/>
            </p:nvSpPr>
            <p:spPr>
              <a:xfrm>
                <a:off x="4737240" y="1820880"/>
                <a:ext cx="3456000" cy="11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 algn="ctr">
                  <a:lnSpc>
                    <a:spcPct val="100000"/>
                  </a:lnSpc>
                  <a:spcAft>
                    <a:spcPts val="7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Century Gothic"/>
                  </a:rPr>
                  <a:t>            </a:t>
                </a:r>
                <a:r>
                  <a:rPr b="1" lang="en-GB" sz="1400" spc="-1" strike="noStrike">
                    <a:solidFill>
                      <a:srgbClr val="ffffff"/>
                    </a:solidFill>
                    <a:latin typeface="Century Gothic"/>
                  </a:rPr>
                  <a:t>=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Aft>
                    <a:spcPts val="7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Century Gothic"/>
                  </a:rPr>
                  <a:t>	</a:t>
                </a:r>
                <a:r>
                  <a:rPr b="1" lang="en-GB" sz="1400" spc="-1" strike="noStrike">
                    <a:solidFill>
                      <a:srgbClr val="ffffff"/>
                    </a:solidFill>
                    <a:latin typeface="Century Gothic"/>
                  </a:rPr>
                  <a:t>15,000 hours occupied per year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343080" indent="-343080" algn="ctr">
                  <a:lnSpc>
                    <a:spcPct val="100000"/>
                  </a:lnSpc>
                  <a:spcAft>
                    <a:spcPts val="7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Century Gothic"/>
                  </a:rPr>
                  <a:t> </a:t>
                </a:r>
                <a:r>
                  <a:rPr b="1" lang="en-GB" sz="1400" spc="-1" strike="noStrike">
                    <a:solidFill>
                      <a:srgbClr val="ffffff"/>
                    </a:solidFill>
                    <a:latin typeface="Century Gothic"/>
                  </a:rPr>
                  <a:t>8,760 actual hours per year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265960" y="2122560"/>
                <a:ext cx="863640" cy="7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 algn="ctr">
                  <a:lnSpc>
                    <a:spcPct val="100000"/>
                  </a:lnSpc>
                  <a:spcAft>
                    <a:spcPts val="7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Century Gothic"/>
                  </a:rPr>
                  <a:t>1.7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343080" indent="-343080" algn="ctr">
                  <a:lnSpc>
                    <a:spcPct val="100000"/>
                  </a:lnSpc>
                  <a:spcAft>
                    <a:spcPts val="7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Century Gothic"/>
                  </a:rPr>
                  <a:t> </a:t>
                </a:r>
                <a:r>
                  <a:rPr b="1" lang="en-GB" sz="1400" spc="-1" strike="noStrike">
                    <a:solidFill>
                      <a:srgbClr val="ffffff"/>
                    </a:solidFill>
                    <a:latin typeface="Century 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4976640" y="2435400"/>
              <a:ext cx="27291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05600" y="2252520"/>
              <a:ext cx="4320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 algn="ctr">
                <a:lnSpc>
                  <a:spcPct val="10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Century Gothic"/>
                </a:rPr>
                <a:t>=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81960" y="2411280"/>
              <a:ext cx="365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538520" y="3492360"/>
            <a:ext cx="536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Using the Value of Statistical Life of £1,000,000 we convert the human targets to a per square metre monetary 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0" y="3708360"/>
            <a:ext cx="10308960" cy="3687840"/>
            <a:chOff x="0" y="3708360"/>
            <a:chExt cx="10308960" cy="3687840"/>
          </a:xfrm>
        </p:grpSpPr>
        <p:sp>
          <p:nvSpPr>
            <p:cNvPr id="132" name=""/>
            <p:cNvSpPr/>
            <p:nvPr/>
          </p:nvSpPr>
          <p:spPr>
            <a:xfrm>
              <a:off x="0" y="6732720"/>
              <a:ext cx="432288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9000"/>
            </a:bodyPr>
            <a:p>
              <a:pPr marL="305280" indent="-305280">
                <a:lnSpc>
                  <a:spcPct val="10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Century Gothic"/>
                </a:rPr>
                <a:t>	</a:t>
              </a:r>
              <a:r>
                <a:rPr b="1" lang="en-GB" sz="1400" spc="-1" strike="noStrike">
                  <a:solidFill>
                    <a:srgbClr val="ffffff"/>
                  </a:solidFill>
                  <a:latin typeface="Century Gothic"/>
                </a:rPr>
                <a:t>The red example considers the value of the target associated with whole tree failure having a footprint of 50m</a:t>
              </a:r>
              <a:r>
                <a:rPr b="1" lang="en-GB" sz="1400" spc="-1" strike="noStrike" baseline="30000">
                  <a:solidFill>
                    <a:srgbClr val="ffffff"/>
                  </a:solidFill>
                  <a:latin typeface="Century 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05280" indent="-305280">
                <a:lnSpc>
                  <a:spcPct val="10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216160" y="3708360"/>
              <a:ext cx="1725480" cy="1218960"/>
              <a:chOff x="2216160" y="3708360"/>
              <a:chExt cx="1725480" cy="1218960"/>
            </a:xfrm>
          </p:grpSpPr>
          <p:sp>
            <p:nvSpPr>
              <p:cNvPr id="134" name=""/>
              <p:cNvSpPr/>
              <p:nvPr/>
            </p:nvSpPr>
            <p:spPr>
              <a:xfrm>
                <a:off x="2216160" y="3708360"/>
                <a:ext cx="1725480" cy="1218960"/>
              </a:xfrm>
              <a:custGeom>
                <a:avLst/>
                <a:gdLst/>
                <a:ahLst/>
                <a:rect l="l" t="t" r="r" b="b"/>
                <a:pathLst>
                  <a:path w="1087" h="701">
                    <a:moveTo>
                      <a:pt x="0" y="568"/>
                    </a:moveTo>
                    <a:cubicBezTo>
                      <a:pt x="75" y="490"/>
                      <a:pt x="320" y="189"/>
                      <a:pt x="451" y="97"/>
                    </a:cubicBezTo>
                    <a:cubicBezTo>
                      <a:pt x="582" y="5"/>
                      <a:pt x="695" y="0"/>
                      <a:pt x="789" y="15"/>
                    </a:cubicBezTo>
                    <a:cubicBezTo>
                      <a:pt x="883" y="30"/>
                      <a:pt x="970" y="122"/>
                      <a:pt x="1016" y="189"/>
                    </a:cubicBezTo>
                    <a:cubicBezTo>
                      <a:pt x="1062" y="256"/>
                      <a:pt x="1087" y="339"/>
                      <a:pt x="1063" y="417"/>
                    </a:cubicBezTo>
                    <a:cubicBezTo>
                      <a:pt x="1039" y="495"/>
                      <a:pt x="950" y="609"/>
                      <a:pt x="871" y="655"/>
                    </a:cubicBezTo>
                    <a:cubicBezTo>
                      <a:pt x="792" y="701"/>
                      <a:pt x="731" y="699"/>
                      <a:pt x="588" y="691"/>
                    </a:cubicBezTo>
                    <a:cubicBezTo>
                      <a:pt x="445" y="683"/>
                      <a:pt x="132" y="625"/>
                      <a:pt x="12" y="608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008160" y="4071960"/>
                <a:ext cx="7923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</a:rPr>
                  <a:t>50m</a:t>
                </a:r>
                <a:r>
                  <a:rPr b="1" lang="en-GB" sz="16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867200" y="5148360"/>
              <a:ext cx="5441760" cy="1339920"/>
              <a:chOff x="4867200" y="5148360"/>
              <a:chExt cx="5441760" cy="1339920"/>
            </a:xfrm>
          </p:grpSpPr>
          <p:sp>
            <p:nvSpPr>
              <p:cNvPr id="137" name=""/>
              <p:cNvSpPr/>
              <p:nvPr/>
            </p:nvSpPr>
            <p:spPr>
              <a:xfrm>
                <a:off x="4883040" y="5226480"/>
                <a:ext cx="54259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90000"/>
                  </a:lnSpc>
                  <a:spcAft>
                    <a:spcPts val="3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Century Gothic"/>
                  </a:rPr>
                  <a:t>Red example – whole tree failur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343080" indent="-343080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67200" y="5515200"/>
                <a:ext cx="5113440" cy="86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Aft>
                    <a:spcPts val="3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Century Gothic"/>
                  </a:rPr>
                  <a:t>Area of 50m</a:t>
                </a:r>
                <a:r>
                  <a:rPr b="1" lang="en-US" sz="1400" spc="-1" strike="noStrike" baseline="30000">
                    <a:solidFill>
                      <a:srgbClr val="ffffff"/>
                    </a:solidFill>
                    <a:latin typeface="Century Gothic"/>
                  </a:rPr>
                  <a:t>2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Century Gothic"/>
                  </a:rPr>
                  <a:t> x £1,425 per metre = £71,25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Aft>
                    <a:spcPts val="3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Century Gothic"/>
                  </a:rPr>
                  <a:t>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Century Gothic"/>
                  </a:rPr>
                  <a:t>71,250     =  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Aft>
                    <a:spcPts val="3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Century Gothic"/>
                  </a:rPr>
                  <a:t>1,000,000      14 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956120" y="6037560"/>
                <a:ext cx="8636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06960" y="6051960"/>
                <a:ext cx="252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83040" y="5148360"/>
                <a:ext cx="3816360" cy="13399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Arial"/>
                  </a:rPr>
                  <a:t>`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0" y="4068720"/>
            <a:ext cx="10323360" cy="4211640"/>
            <a:chOff x="0" y="4068720"/>
            <a:chExt cx="10323360" cy="4211640"/>
          </a:xfrm>
        </p:grpSpPr>
        <p:grpSp>
          <p:nvGrpSpPr>
            <p:cNvPr id="143" name=""/>
            <p:cNvGrpSpPr/>
            <p:nvPr/>
          </p:nvGrpSpPr>
          <p:grpSpPr>
            <a:xfrm>
              <a:off x="1352520" y="4068720"/>
              <a:ext cx="936360" cy="709560"/>
              <a:chOff x="1352520" y="4068720"/>
              <a:chExt cx="936360" cy="709560"/>
            </a:xfrm>
          </p:grpSpPr>
          <p:sp>
            <p:nvSpPr>
              <p:cNvPr id="144" name=""/>
              <p:cNvSpPr/>
              <p:nvPr/>
            </p:nvSpPr>
            <p:spPr>
              <a:xfrm>
                <a:off x="1444680" y="4068720"/>
                <a:ext cx="804600" cy="709560"/>
              </a:xfrm>
              <a:custGeom>
                <a:avLst/>
                <a:gdLst/>
                <a:ahLst/>
                <a:rect l="l" t="t" r="r" b="b"/>
                <a:pathLst>
                  <a:path w="507" h="393">
                    <a:moveTo>
                      <a:pt x="298" y="340"/>
                    </a:moveTo>
                    <a:cubicBezTo>
                      <a:pt x="245" y="332"/>
                      <a:pt x="212" y="329"/>
                      <a:pt x="168" y="318"/>
                    </a:cubicBezTo>
                    <a:cubicBezTo>
                      <a:pt x="124" y="307"/>
                      <a:pt x="60" y="284"/>
                      <a:pt x="32" y="273"/>
                    </a:cubicBezTo>
                    <a:cubicBezTo>
                      <a:pt x="4" y="262"/>
                      <a:pt x="0" y="264"/>
                      <a:pt x="1" y="249"/>
                    </a:cubicBezTo>
                    <a:cubicBezTo>
                      <a:pt x="2" y="234"/>
                      <a:pt x="19" y="208"/>
                      <a:pt x="40" y="181"/>
                    </a:cubicBezTo>
                    <a:cubicBezTo>
                      <a:pt x="61" y="154"/>
                      <a:pt x="97" y="115"/>
                      <a:pt x="130" y="87"/>
                    </a:cubicBezTo>
                    <a:cubicBezTo>
                      <a:pt x="163" y="59"/>
                      <a:pt x="216" y="24"/>
                      <a:pt x="241" y="12"/>
                    </a:cubicBezTo>
                    <a:cubicBezTo>
                      <a:pt x="266" y="0"/>
                      <a:pt x="264" y="5"/>
                      <a:pt x="280" y="18"/>
                    </a:cubicBezTo>
                    <a:cubicBezTo>
                      <a:pt x="296" y="31"/>
                      <a:pt x="319" y="66"/>
                      <a:pt x="340" y="93"/>
                    </a:cubicBezTo>
                    <a:cubicBezTo>
                      <a:pt x="361" y="120"/>
                      <a:pt x="380" y="137"/>
                      <a:pt x="405" y="183"/>
                    </a:cubicBezTo>
                    <a:cubicBezTo>
                      <a:pt x="430" y="229"/>
                      <a:pt x="507" y="341"/>
                      <a:pt x="489" y="367"/>
                    </a:cubicBezTo>
                    <a:cubicBezTo>
                      <a:pt x="471" y="393"/>
                      <a:pt x="351" y="348"/>
                      <a:pt x="298" y="340"/>
                    </a:cubicBezTo>
                    <a:close/>
                  </a:path>
                </a:pathLst>
              </a:custGeom>
              <a:noFill/>
              <a:ln w="2556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352520" y="4230720"/>
                <a:ext cx="9363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2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</a:rPr>
                  <a:t>12m</a:t>
                </a:r>
                <a:r>
                  <a:rPr b="1" lang="en-GB" sz="16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881600" y="6661080"/>
              <a:ext cx="5441760" cy="1417320"/>
              <a:chOff x="4881600" y="6661080"/>
              <a:chExt cx="5441760" cy="1417320"/>
            </a:xfrm>
          </p:grpSpPr>
          <p:sp>
            <p:nvSpPr>
              <p:cNvPr id="147" name=""/>
              <p:cNvSpPr/>
              <p:nvPr/>
            </p:nvSpPr>
            <p:spPr>
              <a:xfrm>
                <a:off x="4897440" y="6824520"/>
                <a:ext cx="54259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90000"/>
                  </a:lnSpc>
                  <a:spcAft>
                    <a:spcPts val="3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Century Gothic"/>
                  </a:rPr>
                  <a:t>Yellow example – branch failur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881600" y="7134120"/>
                <a:ext cx="5113440" cy="86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Aft>
                    <a:spcPts val="3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Century Gothic"/>
                  </a:rPr>
                  <a:t>Area of 12m</a:t>
                </a:r>
                <a:r>
                  <a:rPr b="1" lang="en-US" sz="1400" spc="-1" strike="noStrike" baseline="30000">
                    <a:solidFill>
                      <a:srgbClr val="ffffff"/>
                    </a:solidFill>
                    <a:latin typeface="Century Gothic"/>
                  </a:rPr>
                  <a:t>2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Century Gothic"/>
                  </a:rPr>
                  <a:t> x £1,425 per metre = £17,1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Aft>
                    <a:spcPts val="3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Century Gothic"/>
                  </a:rPr>
                  <a:t>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Century Gothic"/>
                  </a:rPr>
                  <a:t>17,100      =  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Aft>
                    <a:spcPts val="3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Century Gothic"/>
                  </a:rPr>
                  <a:t>1,000,000      58 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956120" y="7667280"/>
                <a:ext cx="8636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06960" y="7637400"/>
                <a:ext cx="2527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97440" y="6661080"/>
                <a:ext cx="3816360" cy="1417320"/>
              </a:xfrm>
              <a:prstGeom prst="rect">
                <a:avLst/>
              </a:pr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0" y="7453440"/>
              <a:ext cx="432288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Century Gothic"/>
                </a:rPr>
                <a:t>	</a:t>
              </a:r>
              <a:r>
                <a:rPr b="1" lang="en-GB" sz="1400" spc="-1" strike="noStrike">
                  <a:solidFill>
                    <a:srgbClr val="ffffff"/>
                  </a:solidFill>
                  <a:latin typeface="Century Gothic"/>
                </a:rPr>
                <a:t>The yellow example considers the value of the target associated with a single branch having a footprint of 12m</a:t>
              </a:r>
              <a:r>
                <a:rPr b="1" lang="en-GB" sz="1400" spc="-1" strike="noStrike" baseline="30000">
                  <a:solidFill>
                    <a:srgbClr val="ffffff"/>
                  </a:solidFill>
                  <a:latin typeface="Century Gothic"/>
                </a:rPr>
                <a:t>2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12400" cy="92329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0280" y="227160"/>
            <a:ext cx="9385200" cy="80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c5"/>
                </a:solidFill>
                <a:latin typeface="Arial"/>
              </a:rPr>
              <a:t>www.qtra.co.uk</a:t>
            </a:r>
            <a:endParaRPr b="1" lang="en-US" sz="6000" spc="-1" strike="noStrike">
              <a:solidFill>
                <a:srgbClr val="ffffc5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8T10:31:08Z</dcterms:created>
  <dc:creator>Mike Ellison</dc:creator>
  <dc:description/>
  <dc:language>en-US</dc:language>
  <cp:lastModifiedBy>Mike Ellison</cp:lastModifiedBy>
  <dcterms:modified xsi:type="dcterms:W3CDTF">2008-07-18T10:31:08Z</dcterms:modified>
  <cp:revision>130</cp:revision>
  <dc:subject/>
  <dc:title>PowerPoint Presentation</dc:title>
</cp:coreProperties>
</file>